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8A85-75C1-40D4-BB65-FF27447931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and the 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and the 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Firs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a gene exist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amet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each pair pass into different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gamete contains only one allele of each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Firs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a gene exist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amet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each pair pass into different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gamete contains only one allele of each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ce of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provides the opportunity for new combinations of the existing alleles of genes to ar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ce of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provides the opportunity for new combinations of the existing alleles of genes to ar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pairs line up at equato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position of any one pair is random relative to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iotic division brings about 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y lead to new phenotypes in the next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pairs line up at equato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position of any one pair is random relative to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iotic division brings about 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y lead to new phenotypes in the next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ing over and separation of 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is aligned with its homologous partne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s of chromatid exchanged at points called 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ing over and separation of 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is aligned with its homologous partne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s of chromatid exchanged at points called 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ds become br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end of one joins with that of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linked genes can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allele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ds become br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end of one joins with that of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linked genes can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allele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species adapt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al of the fittest’ then occurs as a result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species adapt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al of the fittest’ then occurs as a result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between true-breeding parents with different allele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s the individ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esses of a particular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ppearance of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between true-breeding parents with different allele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s the individ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esses of a particular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ppearance of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303-B557-4860-BE96-1101C159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B7D-3200-45BB-8FF5-1E282E26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E61-441F-4E65-A231-BC3EB1AB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23E-F978-4965-B31D-EA94ED45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CB6-92FD-418E-9A42-E0626150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B77-26F7-4AEC-9DAE-FC47AA6F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610-8C59-44E5-B04A-97AD5797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8492-696D-40CF-AEED-A7FA553D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F61-721F-483C-A260-45FA996B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FED-78BD-4856-B486-910A6545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92D-9025-4579-9B8E-B28BC92C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C90-1A64-46AE-82D1-2DDB3713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53C8-611B-4BEA-9300-03FA6F2877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Recombination%20Between%20Linked%20Genes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riation and the 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ndel’s First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inciple of se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s of a gene exist in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gametes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mbers of each pair pass into different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ach gamete contains only one allele of each 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49001" b="0"/>
          <a:stretch/>
        </p:blipFill>
        <p:spPr>
          <a:xfrm>
            <a:off x="2209680" y="1066680"/>
            <a:ext cx="4953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gnificance of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lele: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ent forms of the same 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Meiosis provides the opportunity for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new combination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of the existing alleles of genes to ari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ependent assortment of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line up at equator during first meiotic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l position of any one pair i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ando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elative to any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cond meiotic division brings about independent assortment of 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may lead to new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henotyp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 the n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ing over and separation of linked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 is aligned with its homologous partner during first meiotic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rtions of chromatid exchanged at point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ias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ias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atids become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roken end of one joins with that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s of linked genes can become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new allele combi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new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0"/>
            <a:ext cx="4972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mportance of Va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s species adapt to a changing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of the fittest’ then occurs as a result of natur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oss betwee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rue-breed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arents wit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fferent alle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th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ame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enotyp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lleles the individua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ssesses of a particular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henotype: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hysical appearance of 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49:51Z</dcterms:created>
  <dc:creator>hhashmi</dc:creator>
  <dc:description/>
  <dc:language>en-US</dc:language>
  <cp:lastModifiedBy>RomaK</cp:lastModifiedBy>
  <dcterms:modified xsi:type="dcterms:W3CDTF">2015-09-04T11:36:39Z</dcterms:modified>
  <cp:revision>7</cp:revision>
  <dc:subject/>
  <dc:title>Variation and the Monohybrid Cross</dc:title>
</cp:coreProperties>
</file>